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E6AC-4546-4414-BA8F-38167EEF2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E085-A028-4347-96D7-950486E8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E0D-6601-41F4-B1E1-705ACBFB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3E5-FDBC-4CF6-B813-C10B68F5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6A8-23F0-485D-9B18-17C3D246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E1F-534D-4FEB-B287-E25BFC11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6CF-A612-434C-9E3A-07B3E11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5CF-ECD5-47F3-AA9B-DD9A1D27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5E5-2962-4D11-B4F4-7EF76065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D1C-C1A6-44CA-B885-B0C61270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C1D-F07A-4410-B09B-21E02EAE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818-AEDB-4BA6-94C3-D73E9846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558-B531-4D6F-BE0C-51C9042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C47-DE94-41CD-98BF-9FA4DF2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CA65-8D3E-498E-ABF9-C23AEB1B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724280"/>
            <a:ext cx="64800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7973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973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cansad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954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omo están to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6:53Z</dcterms:modified>
  <cp:revision>103</cp:revision>
  <dc:subject/>
  <dc:title>Profile</dc:title>
</cp:coreProperties>
</file>